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E2B5-BE33-4EB1-ADE7-4BF38EFDE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F8E4-3FE7-4AF9-A1EC-30D40DD95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B168-F1AA-4942-8159-FB922A251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4E6A-E167-4E93-8753-466E446A6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7E07-8C19-4A17-B548-59D7BAB67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1678-BC1A-4ADB-96E4-BBD3015C5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9850-174F-4749-BAC6-4FEB10732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B49A-24F9-4786-ADAB-D023ABD79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5A42-B1A8-46ED-B03B-8F9F2E159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831A-1EDE-426E-B902-68AF3E39E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EAA9-97D4-44BA-88A3-D18946807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3190-C7E1-481C-BFA5-E4E899281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7D96C-8BAB-49E1-9805-744348ED00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PARIŢIA ŞI RĂSPÂNDIREA CREŞTINISMULUI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04920" y="380880"/>
            <a:ext cx="8381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Manualul de Istori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clasa a V-a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, Zoe Petre, Laura Căpiţă, Monica Dvorski, Carol Căpiţă, Ioan Grosu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br>
              <a:rPr sz="4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rimisul lui Dumnezeu, fiul său, Isus, se naşte la Bethleem şi trăieşte la Nazareth. Viaţa sa este povestită în cele patru Evanghelii cunoscute şi sub numele de Noul Testament – scrierea sfântă a creştinilor. La 30 de ani, Isus începe să predice cuvântul lui Dumnezeu în Galileea, o provincie a Palestin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entru a arăta natura sa divină, Isus săvârşeşte miracole. Dintre discipolii săi, doisprezece sunt aleşi pentru a duce mai departe în întreaga lume noua învăţătură. Ei sunt numiţi apostoli, iar cel mai important este Petru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sus predică pentru cei slabi, săraci sau persecutaţi, promiţându-le împărăţia cerurilor, a lui Dumnezeu cel unic şi atotputernic. Noua credinţă se răspândeşte repe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vreii aşteptau un alt fel de Mesia, venind să-i elibereze de sub stăpânirea romană. De aceea nu îl recunos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siderându-l impostor, preoţii îl predau romanilor. Aceştia îl judecă şi îl condamnă la moarte prin crucific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5181480" y="1447920"/>
            <a:ext cx="3619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br>
              <a:rPr sz="4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Redactaţi pe scurt semnificaţia următorilor termen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igraţ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i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ercen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rdonaţi cronologic următoarele eveniment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ivizarea Imperiului ro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retragerea administraţiei şi armatei romane din Da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venirea hunilor în Euro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e urmări au avu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ătrunderea ostrogoţilor în Ita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omnia împăratului Justin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omnia împăratului Diocleţia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uest</cp:lastModifiedBy>
  <dcterms:modified xsi:type="dcterms:W3CDTF">2012-06-18T13:53:51Z</dcterms:modified>
  <cp:revision>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